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254-6C94-444F-B25D-6D06005E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0C8-4B90-44BE-B2B0-A7F944D9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895-76DB-4314-A680-81A31AE6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849-0425-46C5-A352-D765F889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6DA-A4AA-4D93-94EC-26A4CF9B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7A2-A443-4042-8AA8-45FBE9D4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0D5-168A-4D78-9E96-231CE99F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495-C6F8-4E54-A827-6B715897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46E-0587-4E79-A9B4-5AF24C3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6CC-70C9-4480-9AEB-A5FE799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D5E-8222-4DA6-B530-F363BB4E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9E4-A132-40E5-81EE-78BB915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DB88-AF06-4B7F-9BDA-89F037218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image" Target="../media/image5.png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68360"/>
                <a:gridCol w="3965760"/>
                <a:gridCol w="290988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VREAU S</a:t>
                      </a: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  <a:ea typeface="Times New Roman"/>
                        </a:rPr>
                        <a:t>Ǎ </a:t>
                      </a: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AM </a:t>
                      </a: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  <a:ea typeface="Times New Roman"/>
                        </a:rPr>
                        <a:t>ÎNVǍ</a:t>
                      </a:r>
                      <a:r>
                        <a:rPr b="1" lang="en-US" sz="2800" spc="-1" strike="noStrike">
                          <a:solidFill>
                            <a:srgbClr val="2f3175"/>
                          </a:solidFill>
                          <a:latin typeface="Arial"/>
                        </a:rPr>
                        <a:t>Ţ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1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15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modificările din natură care vestesc ploaia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fenomenele naturii care însoţesc ploaia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este importanţa ploii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pagubele ce pot fi provocate de ploaie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schimbările din natură produse de ninsoare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este importanţa ninsorii şi a vântului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pagubele produse de vânt şi ninsoare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sunt jocurile cu zăpadă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66"/>
                        </a:buClr>
                        <a:buFont typeface="Wingdings" charset="2"/>
                        <a:buChar char="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42" name="" descr="{animated cloud}"/>
          <p:cNvPicPr/>
          <p:nvPr/>
        </p:nvPicPr>
        <p:blipFill>
          <a:blip r:embed="rId9"/>
          <a:stretch/>
        </p:blipFill>
        <p:spPr>
          <a:xfrm>
            <a:off x="179280" y="2349360"/>
            <a:ext cx="1871640" cy="115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{animated cloud}"/>
          <p:cNvPicPr/>
          <p:nvPr/>
        </p:nvPicPr>
        <p:blipFill>
          <a:blip r:embed="rId10"/>
          <a:stretch/>
        </p:blipFill>
        <p:spPr>
          <a:xfrm>
            <a:off x="250920" y="907920"/>
            <a:ext cx="1428480" cy="11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11"/>
          <a:stretch/>
        </p:blipFill>
        <p:spPr>
          <a:xfrm>
            <a:off x="0" y="3141720"/>
            <a:ext cx="2089080" cy="143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2"/>
          <a:stretch/>
        </p:blipFill>
        <p:spPr>
          <a:xfrm>
            <a:off x="0" y="3068640"/>
            <a:ext cx="1368360" cy="1106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3"/>
          <a:stretch/>
        </p:blipFill>
        <p:spPr>
          <a:xfrm>
            <a:off x="0" y="4724280"/>
            <a:ext cx="22320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5-31T02:44:1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